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6B1-27EF-44B2-801A-D648607A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FD2-52BA-4DA5-AC9D-3EEC1260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39F7-F6F8-4EE7-813F-43CD3459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335-EFE3-4DEF-9372-5E00F023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BB9-AB21-4FBA-A4E3-8EAF51A3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CC0-379C-437E-B0D6-783E8B8F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305-C841-448C-A0D7-CF24CB70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3F0-87F1-4FF4-AE0B-EC1465A1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007-9ABC-4EFF-9CC2-6D242C0E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0DD-D00F-4C97-948C-4D64D3DC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BA7-2960-4D34-8000-359A9391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CEC-887B-42BE-BA0A-AFAB4E7D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B0B2D-67F3-4D4F-A868-66F7D8EC48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Group Nature Protection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st Annual Meeting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th December 2013, Podgorica, Motnenegro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640" y="1773000"/>
            <a:ext cx="61200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 Narrow"/>
              </a:rPr>
              <a:t>Overview of the NWG task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SimSun"/>
              </a:rPr>
              <a:t>This Project is funded by the European Un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Afbeelding 32" descr="jaune.jpg"/>
          <p:cNvPicPr/>
          <p:nvPr/>
        </p:nvPicPr>
        <p:blipFill>
          <a:blip r:embed="rId1"/>
          <a:stretch/>
        </p:blipFill>
        <p:spPr>
          <a:xfrm>
            <a:off x="2484360" y="5734080"/>
            <a:ext cx="59076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440" y="380160"/>
            <a:ext cx="339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</a:t>
            </a:r>
            <a:r>
              <a:rPr b="0" lang="cs-CZ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Afbeelding 33" descr="HD_psc 4c CMYK"/>
          <p:cNvPicPr/>
          <p:nvPr/>
        </p:nvPicPr>
        <p:blipFill>
          <a:blip r:embed="rId2"/>
          <a:stretch/>
        </p:blipFill>
        <p:spPr>
          <a:xfrm>
            <a:off x="971640" y="630864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4788000" y="6452640"/>
            <a:ext cx="416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A project implemented by Human Dynamics Consortiu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3"/>
          <a:stretch/>
        </p:blipFill>
        <p:spPr>
          <a:xfrm>
            <a:off x="2340000" y="568440"/>
            <a:ext cx="4788000" cy="5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2.7.1 Organisation of annual Working Group meeting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Expected outputs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bringing together relevant representatives of the beneficiary countr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discussing the needs of particular countries and the ways how the ECRAN project could address them be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adopting workplans and other docu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exchanging information among all countrie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7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2.7.2 Appropriate Assessments, training programme on nature priority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subtask a): 3 pilot AAs within the ECRAN reg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subtask b): 1 study AA tour to the EU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subtask c):  Regional training on the process of designation of potential N 2000 si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subtask d):  Assessment of readiness of ECRAN Beneficiaries for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N 2000 design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2.7.2 Appropriate Assessments, training programme on nature priority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Expected outputs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three “participatory” AAs conducted jointly with the beneficiar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study tour on the AA to the EU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gional training on the process of N2K designation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assessment of readiness of ECRAN Beneficiaries for  N2K designation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: 2 op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3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2.7.2 Appropriate Assessments, training programme on nature priority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ssessment of status of implementation of N2K in ECRAN beneficiaries and identification of steps towards SPA and pSCI designation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(=To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o assess what is needed in particular ECRAN Beneficiaries to meet the target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= N2K design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6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2.7.3 Design and delivery of Regional Awareness Raising Programm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Expected outputs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four regional seminars organized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9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2.7.5 Establishment of Regional Cooperation among Nature Protected Areas (NPA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subtask a): establishment of the regional coope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subtask b): participation at EU networks annual meeting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subtask c): 3 training missions to the EU P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2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2.7.5 Establishment of Regional Cooperation among Nature Protected Areas (NPA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Expected outputs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egional cooperation establish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articipation of a delegate at annual meeting(s) of selected EU networ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hree weeks of training for 3 x 4 PAs representatives in the EU organis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5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ra</cp:lastModifiedBy>
  <cp:lastPrinted>2004-11-17T18:27:25Z</cp:lastPrinted>
  <dcterms:modified xsi:type="dcterms:W3CDTF">2013-12-24T07:06:30Z</dcterms:modified>
  <cp:revision>190</cp:revision>
  <dc:subject/>
  <dc:title>PowerPoint Presentation</dc:title>
</cp:coreProperties>
</file>