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12C-7E80-4562-A772-B9B83CDA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AFC-6B89-4BAA-9EBD-CFD2B5A6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622-000D-4859-8228-F9A566B3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997-E560-4FF4-8A92-5C5D43D1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EE0-0C8C-4A42-973F-4F5019B1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775-29AC-4CEB-B526-C1E33DF1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F95A-86BB-490A-9BD9-9734AE29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1D6-6BF9-4BFD-A256-D69CC256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A2F-41AB-443A-8897-0A59E0EF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064-BE26-4CF8-B3AE-29192B64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AAE-4347-409E-9A1C-888BF176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35D-2795-4365-B87B-5F42AE81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21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A1C96-CC78-4BA7-BB8D-6C15366CF8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Group Nature Protection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st Annual Meeting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th December 2013, Podgorica, Motnenegro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640" y="1773000"/>
            <a:ext cx="61200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pproach to implementation of NWG activ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utual communic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SimSun"/>
              </a:rPr>
              <a:t>This Project is funded by the European Un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Afbeelding 32" descr="jaune.jpg"/>
          <p:cNvPicPr/>
          <p:nvPr/>
        </p:nvPicPr>
        <p:blipFill>
          <a:blip r:embed="rId1"/>
          <a:stretch/>
        </p:blipFill>
        <p:spPr>
          <a:xfrm>
            <a:off x="2484360" y="5734080"/>
            <a:ext cx="59076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440" y="380160"/>
            <a:ext cx="339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</a:t>
            </a: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Afbeelding 33" descr="HD_psc 4c CMYK"/>
          <p:cNvPicPr/>
          <p:nvPr/>
        </p:nvPicPr>
        <p:blipFill>
          <a:blip r:embed="rId2"/>
          <a:stretch/>
        </p:blipFill>
        <p:spPr>
          <a:xfrm>
            <a:off x="971640" y="630864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4788000" y="6452640"/>
            <a:ext cx="41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A project implemented by Human Dynamics Consorti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3"/>
          <a:stretch/>
        </p:blipFill>
        <p:spPr>
          <a:xfrm>
            <a:off x="2340000" y="568440"/>
            <a:ext cx="4788000" cy="5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c) e-mail communication between NWG coordinator and particular NC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Purpose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o discuss and operatively resolve daily (emerging) issues/challenges during the project cour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o discuss and agree on the potential lists of participants (both nominal and institutional) to particular tasks/events  (where nominal or institutional participation is needed)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1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d) e-mail communication between the NWG coordinator, project TL and/or Project Director  and particular NC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Purpose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aling with bilateral issues in need of official approval of the Project manag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ttlement of problem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nfirmation of nominations for the study tour/training in EU P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4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e) direct e-mail communication of the NWG coordinator with the task nominees from c) ab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3500280"/>
            <a:ext cx="77724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Purpose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aily informal  communication with selected nominees for particular tasks/events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7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f) (circular) e-mailing to the N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Purpose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o keep NCs formally informed  on the issues agreed with the nominees to particular  tasks/ev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o keep all NCs  formally informed  on the course of particular tasks during the year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0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lection of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roposed way of nominations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i) NCs, upon request of the NWG coordinator, submit their proposals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 Narrow"/>
                <a:ea typeface="SimSun"/>
                <a:hlinkClick r:id="rId1" action="ppaction://hlinksldjump"/>
              </a:rPr>
              <a:t>]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ii)  in cases of unclarity, the NWG coordinator discusses the nominations with the NC and/or with the Project manag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iii) NWG coordinator has a right to exclude a nominee if he/she does not correspond to the task´s requirements, or for capacity reas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iv) NWG coordinator sends the adopted final list of nominees to the Project manag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5" name="Picture 44" descr=""/>
          <p:cNvPicPr/>
          <p:nvPr/>
        </p:nvPicPr>
        <p:blipFill>
          <a:blip r:embed="rId2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Criteria for participants to particular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Narrow"/>
                <a:ea typeface="SimSun"/>
              </a:rPr>
              <a:t>2.7.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National coordinators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8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Criteria for participants to particular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 Narrow"/>
                <a:ea typeface="SimSun"/>
              </a:rPr>
              <a:t>2.7.2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 Narrow"/>
              </a:rPr>
              <a:t>,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 Narrow"/>
                <a:ea typeface="SimSun"/>
              </a:rPr>
              <a:t>Subtask a)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nature protection authorities at central level in charge of site prote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regional nature protection authority in charge of site protection from the region where the pilot AA takes pla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EIA authorities at central level (if capacity allow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regional EIA authorities from the region where the pilot AA takes place (if capacity allows)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i="1" lang="cs-CZ" sz="1200" spc="-1" strike="noStrike">
                <a:solidFill>
                  <a:srgbClr val="000000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1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Criteria for participants to particular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nature protection agencies (EPA where NPA does not exist of is replaced by EPA) at the central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nature protection agencies at the regional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NGOs devoted to nature impact assessments (if capacity allows; not eligible for funding by TAIEX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Persons (academics, private persons or representatives of consultancy  firms) already dealing with/seriously interested in nature impact assessment  known to authorities of agencies mentioned above (if capacity allows; not eligible for funding by TAIEX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4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Criteria for participants to particular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 Narrow"/>
                <a:ea typeface="SimSun"/>
              </a:rPr>
              <a:t>Subtask b):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Narrow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nature protection authorities at central level in charge of site prote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nature protection agencies (EPA where NPA does not exist of is replaced by EPA) at the central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nature protection agencies at the regional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7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pproach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CRAN Activity 2.7: a wide range of different activities requiring different approach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fferent groups of participants to particular ev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is should be matched in a tailored w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7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Criteria for participants to particular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 Narrow"/>
                <a:ea typeface="SimSun"/>
              </a:rPr>
              <a:t>Subtask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 Narrow"/>
              </a:rPr>
              <a:t>c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 Narrow"/>
                <a:ea typeface="SimSun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nature protection authorities at central level in charge of preparation of the N2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nature protection authorities at regional level in charge of preparation of the N2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nature protection agencies (EPA where NPA does not exist of is replaced by EPA) at the central level in charge of preparation of the N2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nature protection agencies at the regional level in charge of preparation of the N2K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Narro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0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Criteria for participants to particular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NGOs devoted to preparation of N2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Academics, scientists, experts interested in N2K preparation (recommended/seconded by nature protection bodies)(depending on the capacit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associations of farmers, foresters, hunters, private landowners (if seriously interested and after consultation with nature protection bodies and NCs) (depending on the capacit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 Narrow"/>
                <a:ea typeface="SimSun"/>
              </a:rPr>
              <a:t>Subtask d):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 not relevant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3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Criteria for participants to particular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Narrow"/>
                <a:ea typeface="SimSun"/>
              </a:rPr>
              <a:t>2.7.3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Audience to be chosen later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,</a:t>
            </a:r>
            <a:r>
              <a:rPr b="0" i="1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 according to the theme of particular semin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Narrow"/>
                <a:ea typeface="SimSun"/>
              </a:rPr>
              <a:t>2.7.4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nature protection authorities/bodies (custodians) in charge of large-scale P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nature protection authorities at central level in charge of large-scale P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nature protection authorities at regional level in charge of large-scale P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Representatives of regional and/or local self-governments (on a selective basis; not eligible for funding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by 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TAIEX)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6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Criteria for participants to particular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Narrow"/>
                <a:ea typeface="SimSun"/>
              </a:rPr>
              <a:t>2.7.5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SimSun"/>
              </a:rPr>
              <a:t>To be agreed per rollam once the character of regional cooperation has been clarified and agreed 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9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ypes of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minars – three type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eral, informative (2.7.3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cused on distinct subject (2.7.2 Natura 2000 preparatio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cused on distinct audience (2.7.5 national park seminars + annual meeting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ypes of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ilot hands on training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ilot AAs (2.7.2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rticipatory Management Plan (2.7.4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3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ypes of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y tour to the EU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A (2.7.2) (strongly limi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ilateral consultations with Beneficiarie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 Assessment of readiness for N2000 (2.7.2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6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ypes of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ocused training in the EU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tional parks staff (2.7.5) (strongly limi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rticipation at EU event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presentative(s) of regional park cooperation (strongly limit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nual meetings (2.7.1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9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he variety of tasks and audiences requires flexible approach to mutual informing and communi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osed ways of communica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2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a) annual mee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Purpose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nce a year, 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o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ring together national coordinators (NC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o ta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principal decisions about the direction of particular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o a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opt</a:t>
            </a: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workplans and other documents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5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b) e-mail  </a:t>
            </a: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er rollam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 agreement between the NWG coordinator and NCs on pending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3213000"/>
            <a:ext cx="777240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Purpose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Narrow"/>
              </a:rPr>
              <a:t>to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dopt decisions on pending issues during the period between the annual meeting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8" name="Picture 44" descr=""/>
          <p:cNvPicPr/>
          <p:nvPr/>
        </p:nvPicPr>
        <p:blipFill>
          <a:blip r:embed="rId1"/>
          <a:stretch/>
        </p:blipFill>
        <p:spPr>
          <a:xfrm>
            <a:off x="6732720" y="6391440"/>
            <a:ext cx="2228760" cy="23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ra</cp:lastModifiedBy>
  <cp:lastPrinted>2004-11-17T18:27:25Z</cp:lastPrinted>
  <dcterms:modified xsi:type="dcterms:W3CDTF">2013-12-24T06:53:36Z</dcterms:modified>
  <cp:revision>195</cp:revision>
  <dc:subject/>
  <dc:title>PowerPoint Presentation</dc:title>
</cp:coreProperties>
</file>