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199-9C3B-49BA-A1AD-97A970F8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9E8-38AF-4A6D-ACF8-203FFDF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04B-9E7C-41FE-9823-F89069E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D27-1F31-4A75-AB28-D8DFAC85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699-1750-4568-917C-671C75B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AE3-51EA-4A60-B5A3-6982939E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90F-4B2B-407B-98DA-5EAB089F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2D6-C7CF-44D5-92AA-89CBCEED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541-5454-4839-A128-9BA9BE3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633-2E9B-4E70-9291-43FA270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006-A6EE-49AC-B4B3-4138302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999-D38B-4151-AE5C-E043843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58D2B-05D0-4862-8793-DE81A85DC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Nature Protection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st Annual Meeting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th December 2013, Podgorica, Motnenegro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730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 Narrow"/>
              </a:rPr>
              <a:t>Natura 2000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 Narrow"/>
              </a:rPr>
              <a:t>preparation process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An overvie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2484360" y="5734080"/>
            <a:ext cx="5907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971640" y="630864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788000" y="645264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2340000" y="568440"/>
            <a:ext cx="478800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≠ „paper network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  design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hould effectively protect and conserve nature (costs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- should not kill the country´s development (extent + measures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5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– process of establish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3 parallel proces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PAs according to the Birds Dir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SCIs for habitat types (Annex I HabDi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SCIs for species (Annex II HabDi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One common characteristic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- even in countries with good, data, enough money and human resources it´s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lengthy 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– process of establish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mmon characteristic of the ECRAN reg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vast biodivers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sufficient knowledge and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o mone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eak human re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sult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Much more time for N2K preparation needed than in the West of Eur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rticular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cs-CZ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PA (Special Protection Areas, Bird Dir) – based on IBA (Important Bird Areas of BirdLife Internation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BAs – based on certain ornithological criteria to be checked at country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BA list – for ornithologically less examined countries does not need to be comple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erefore, IBAs are a foundation but a lot of work is to be do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ference list of species compiled/valida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ational ornithological criteria for SPAs developed – discussed (BDL, EC) – agre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PAs proposed for known spec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search undertaken for less-known o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PA protection measures made up (no „empty bubbles“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ll this by the acce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 ≠ Emerald: striking differences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e beginning almost the sam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list of habitat types, list of species (Annex I and II HabDir, resolutions 1996 and 1998 of the Bern Conventi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But since then, both „networks“ created in an absolutely different manne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5146920" cy="15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meral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side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merald si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08" name="Oval 6"/>
          <p:cNvSpPr/>
          <p:nvPr/>
        </p:nvSpPr>
        <p:spPr>
          <a:xfrm>
            <a:off x="1979640" y="2852640"/>
            <a:ext cx="259236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195640" y="3573360"/>
            <a:ext cx="360360" cy="2160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3564000" y="3141720"/>
            <a:ext cx="216000" cy="35856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2916360" y="3933720"/>
            <a:ext cx="360360" cy="28728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3419640" y="3212640"/>
            <a:ext cx="28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556000" y="364500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3924360" y="321300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3708360" y="3141360"/>
            <a:ext cx="20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651672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meral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side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merald si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hop windows“, best examples of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sites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 Narrow"/>
              </a:rPr>
              <a:t>with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1979640" y="2852640"/>
            <a:ext cx="259236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195640" y="3573360"/>
            <a:ext cx="360360" cy="21600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564000" y="3141720"/>
            <a:ext cx="216000" cy="35856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916360" y="3933720"/>
            <a:ext cx="360360" cy="287280"/>
          </a:xfrm>
          <a:prstGeom prst="irregularSeal1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419640" y="3212640"/>
            <a:ext cx="288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2556000" y="364500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3924360" y="321300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3708360" y="3141360"/>
            <a:ext cx="20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651672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meral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data often from literature on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mpossible to say which % of are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quality of that habitat type/species covered by that s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o management/protection measures  exist („paper sites“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legally non-exist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prepar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t a one-off a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ngthy and costly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fact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hree processe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un in parall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tablishment of N2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≠ obj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jective = functional network (meeting the objective of EU nature policy) →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 →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ed for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per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o sites, n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35" name="Oval 5"/>
          <p:cNvSpPr/>
          <p:nvPr/>
        </p:nvSpPr>
        <p:spPr>
          <a:xfrm>
            <a:off x="1619280" y="2852640"/>
            <a:ext cx="3024000" cy="2160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untry-wide map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39" name="Oval 5"/>
          <p:cNvSpPr/>
          <p:nvPr/>
        </p:nvSpPr>
        <p:spPr>
          <a:xfrm>
            <a:off x="1619280" y="2852640"/>
            <a:ext cx="3024000" cy="216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untry occurrence know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43" name="Oval 5"/>
          <p:cNvSpPr/>
          <p:nvPr/>
        </p:nvSpPr>
        <p:spPr>
          <a:xfrm>
            <a:off x="1619280" y="2852640"/>
            <a:ext cx="3024000" cy="216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050920" y="335772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2340000" y="3357720"/>
            <a:ext cx="712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2411280" y="364500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2556000" y="4005360"/>
            <a:ext cx="7128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2700360" y="4221000"/>
            <a:ext cx="14292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11"/>
          <p:cNvSpPr/>
          <p:nvPr/>
        </p:nvSpPr>
        <p:spPr>
          <a:xfrm>
            <a:off x="2771640" y="400536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12"/>
          <p:cNvSpPr/>
          <p:nvPr/>
        </p:nvSpPr>
        <p:spPr>
          <a:xfrm>
            <a:off x="3708360" y="3213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3851280" y="3284640"/>
            <a:ext cx="730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4"/>
          <p:cNvSpPr/>
          <p:nvPr/>
        </p:nvSpPr>
        <p:spPr>
          <a:xfrm>
            <a:off x="3708360" y="342900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3995640" y="4437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3995640" y="4292640"/>
            <a:ext cx="7164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7"/>
          <p:cNvSpPr/>
          <p:nvPr/>
        </p:nvSpPr>
        <p:spPr>
          <a:xfrm>
            <a:off x="4211640" y="4292640"/>
            <a:ext cx="73080" cy="21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8"/>
          <p:cNvSpPr/>
          <p:nvPr/>
        </p:nvSpPr>
        <p:spPr>
          <a:xfrm>
            <a:off x="3419640" y="4724280"/>
            <a:ext cx="72720" cy="144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ite selection rules 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60" name="Oval 5"/>
          <p:cNvSpPr/>
          <p:nvPr/>
        </p:nvSpPr>
        <p:spPr>
          <a:xfrm>
            <a:off x="1619280" y="2852640"/>
            <a:ext cx="3024000" cy="216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2050920" y="335772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340000" y="3357720"/>
            <a:ext cx="712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2411280" y="364500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2556000" y="4005360"/>
            <a:ext cx="7128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700360" y="4221000"/>
            <a:ext cx="14292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2771640" y="400536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3708360" y="3213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3851280" y="3284640"/>
            <a:ext cx="730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708360" y="342900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3995640" y="4437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3995640" y="4292640"/>
            <a:ext cx="7164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4211640" y="4292640"/>
            <a:ext cx="73080" cy="21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3419640" y="4724280"/>
            <a:ext cx="72720" cy="144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0" descr="brandonhill-beard-formula"/>
          <p:cNvPicPr/>
          <p:nvPr/>
        </p:nvPicPr>
        <p:blipFill>
          <a:blip r:embed="rId2"/>
          <a:stretch/>
        </p:blipFill>
        <p:spPr>
          <a:xfrm>
            <a:off x="5364000" y="3645000"/>
            <a:ext cx="215280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ites selected = certain %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of  best occurrenc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n the cou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1619280" y="2852640"/>
            <a:ext cx="3024000" cy="216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050920" y="335772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2340000" y="3357720"/>
            <a:ext cx="712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2411280" y="3645000"/>
            <a:ext cx="7308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2556000" y="4005360"/>
            <a:ext cx="71280" cy="14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2700360" y="4221000"/>
            <a:ext cx="14292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771640" y="400536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3708360" y="3213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3851280" y="3284640"/>
            <a:ext cx="7308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708360" y="3429000"/>
            <a:ext cx="71640" cy="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3995640" y="4437000"/>
            <a:ext cx="7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3995640" y="4292640"/>
            <a:ext cx="71640" cy="73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4211640" y="4292640"/>
            <a:ext cx="73080" cy="2160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3419640" y="4724280"/>
            <a:ext cx="72720" cy="144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2700360" y="3933720"/>
            <a:ext cx="35892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3995640" y="4292640"/>
            <a:ext cx="36036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3"/>
          <p:cNvSpPr/>
          <p:nvPr/>
        </p:nvSpPr>
        <p:spPr>
          <a:xfrm>
            <a:off x="3635280" y="321300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24"/>
          <p:cNvSpPr/>
          <p:nvPr/>
        </p:nvSpPr>
        <p:spPr>
          <a:xfrm>
            <a:off x="3348000" y="4724280"/>
            <a:ext cx="21600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essy contribution of Emerald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mplete network covering the pre-set % of best occurrences of all habitat types/species in the cou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legal obligation to protect, consrve and manage the sites (under sanctio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etwork legally bi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. pSCIs for habitat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ference list established (according to biogeographical area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habitat mapping of the entire country for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habitat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field work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everal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vegetation seasons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nee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. pSCIs for habitat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once 100% of each habitat type known → agreed % for  N2K 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GIS-based, manually-adjusted site design propo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overlap with sites for spec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ink about future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 site conservation objectives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 conservation meas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. pSCIs for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Ste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reference list established (according to biogeographical area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field data gathering across the coun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>
              <a:lnSpc>
                <a:spcPct val="90000"/>
              </a:lnSpc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vegetation seas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once 100% of each species occurrence known → agreed % for  N2K 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GIS-based, manually-adjusted site design propo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-6534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overlap with sites for habitat typ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ink about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conservation objectives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 conservation meas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>
              <a:lnSpc>
                <a:spcPct val="90000"/>
              </a:lnSpc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53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efore pSCIs are submitt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laborating all data in the SDF (Stabdard Data Form)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filling in SDFs for all si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reparing site ma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ll this by the acces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ree types of oblig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(actively) manage the si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revent the sites from deterioration, both human-induced and natural (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revent the sites from deterioration/destruction by plans/projects through Appropriate Assessment procedure (A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at´s not in the Dir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rt. 6(1) HabDir say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ACs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, Member States shall establish th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necessary conservation measures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involving, if need be, appropriate management plans …, and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ppropriate statutory, administrative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ontractual measures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which correspond to the ecological requirements of the natural habitat types … and the species…present on the sites.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ll these obligations come into force 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de iure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6 years after the accession – bu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at´s not in the Dir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e local people are interested in one issue onl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6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at´s not in the Dir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e local people are interested in one issue onl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What does this damn´Natura 2000 mean for me???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at´s not in the Dir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e local people are interested in one issue onl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 Narrow"/>
              </a:rPr>
              <a:t>What does this damn´Natura 2000 mean for me???“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ny restriction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ny disadvantag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ny benefit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at´s not in the Dir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2028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o answer these questions, you should have an idea from the beginn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will conservation objectives be (Art. 6(2) or more)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conservation measures you will apply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possible restrictions will ensue from tha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ill there be any benefits for the locals? If any – who pay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Future form of N2K sites (national protected areas, new type of protected areas, sires of ecological network only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-620280" algn="just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+ many other issues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Be ready for that – and never li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0" algn="just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2028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5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Why this presen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because all this (and much more!) should be told to people in charge of N2K preparation during the 2.7.2 training(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Faleminder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Благодарам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vala/Xвaл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eşekk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ü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l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Děkuj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egal 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 establishment and management is an obligation required b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1979 Birds Dir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1992 Habitats Directiv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50+ judgments of the CJ EU (binding + amending the Directives!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at is N2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herent European ecological network“ according to Art. 3(1) of the HabD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does „network“ mean in English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at is N2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herent European ecological network“ according to Art. 3(1) of the HabDi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does „network“ mean in English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a) network = net of interconnected n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b) network = set of separate un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Network"/>
          <p:cNvPicPr/>
          <p:nvPr/>
        </p:nvPicPr>
        <p:blipFill>
          <a:blip r:embed="rId2"/>
          <a:stretch/>
        </p:blipFill>
        <p:spPr>
          <a:xfrm>
            <a:off x="5867280" y="3933720"/>
            <a:ext cx="146232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edden-Dunkhorst_et_al_2007_Alpine_Ecological_Network_-_protected_areas_Slovenia"/>
          <p:cNvPicPr/>
          <p:nvPr/>
        </p:nvPicPr>
        <p:blipFill>
          <a:blip r:embed="rId3"/>
          <a:stretch/>
        </p:blipFill>
        <p:spPr>
          <a:xfrm>
            <a:off x="5796000" y="5157720"/>
            <a:ext cx="1728720" cy="10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at is N2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What is „ecological networ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144600" cy="43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What is N2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atura 2000 ≠ true ecological network – it´s </a:t>
            </a: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set of sites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Narrow"/>
              </a:rPr>
              <a:t>can be designed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as true ecological net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Important rules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connect what makes sense to be connected (ecologicall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ink about practical feasibility of corrid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hink about feasibility of functional protec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2K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≠ „paper network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Most (if not all) so-called „ecological networks“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xist on paper on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2K – not a theoretical exercise: real nature protection tool with serious impac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ositive or negative on bo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-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300720" y="1628640"/>
            <a:ext cx="2340000" cy="17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ra</dc:creator>
  <dc:description/>
  <dc:language>en-US</dc:language>
  <cp:lastModifiedBy>Cera</cp:lastModifiedBy>
  <cp:lastPrinted>2004-11-17T18:27:25Z</cp:lastPrinted>
  <dcterms:modified xsi:type="dcterms:W3CDTF">2013-12-24T07:05:14Z</dcterms:modified>
  <cp:revision>205</cp:revision>
  <dc:subject/>
  <dc:title>PowerPoint Presentation</dc:title>
</cp:coreProperties>
</file>